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25CE-1B41-4F26-B29C-08DE8E06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A188-751F-4732-B732-3386AF7C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4BDC-8C23-4433-9BB1-3780C81A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3757-B1BC-43C9-84FE-99C99C37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03A1-98CC-477F-AA81-D715ECF4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82E1-38F2-460C-A3B6-452F9339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256C-17F5-4490-BFF5-AF5B262C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A63E-400D-4D73-B754-3166B914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E967-D8F2-44FE-B004-A076ACDF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021A-E8FC-4AE1-A9F2-DBFE85B3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51D-683B-46C8-9CA0-11477C63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ADD-7245-4C47-AA5B-B27A9FA1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4D37-04E7-44FC-9C4C-CA22B5F2C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404640"/>
            <a:ext cx="583236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43640" cy="532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2635200" y="4003200"/>
            <a:ext cx="281160" cy="2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606840" y="2060280"/>
            <a:ext cx="14698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80000" y="1341360"/>
            <a:ext cx="21600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3909960"/>
            <a:ext cx="12060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2720" y="1986120"/>
            <a:ext cx="12096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57:48Z</dcterms:created>
  <dc:creator>SEMIR (changer!)</dc:creator>
  <dc:description/>
  <dc:language>en-US</dc:language>
  <cp:lastModifiedBy>SEMIR (changer!)</cp:lastModifiedBy>
  <dcterms:modified xsi:type="dcterms:W3CDTF">2009-06-30T19:58:55Z</dcterms:modified>
  <cp:revision>6</cp:revision>
  <dc:subject/>
  <dc:title>Diapositive 1</dc:title>
</cp:coreProperties>
</file>